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applause.wav" ContentType="audio/x-wav"/>
  <Override PartName="/ppt/media/image2.jpeg" ContentType="image/jpeg"/>
  <Override PartName="/ppt/media/image4.wmf" ContentType="image/x-wmf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E04-DB27-4F96-B19C-578D230B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8FB-E70F-4192-AACC-90687C14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BCC-CE02-47D9-9FE2-539DBA25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C7F-0D40-429A-AA89-17D74424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BBA0-EB01-4F07-B8AA-CAB0A625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FA24-AD9C-4B8D-873C-03C56815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FCD3-06A8-4E99-B090-35D91A11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E03-E869-422E-9F5C-ED80B541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F959-08D9-4F81-B359-86F0E2AD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9E98-443D-4E46-96BE-60375227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2377-8F4B-4232-AA8A-F5452A08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FE6E-24BB-43DA-8C39-C5A5D138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ECE6-01B4-4506-8E19-9DC4DCF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B64-28EB-4C75-98C3-CDEDDF65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F1F-FE43-4C2F-8302-2CE1AA39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150F-A8F2-4F0C-9234-84161C14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B0B6-03B0-46FB-93D0-E87051D6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0C2-22E5-4A68-92AD-D099C737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A292-AFE8-43B3-89D1-26CF6A22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E13-6369-48F6-94C5-47CAFA5B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A0A5-4241-4BC0-B63E-8C34594C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BA1-00BD-4539-811F-712BA716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0E15-C495-4A8F-854B-75D3E0D6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438-24AE-4D25-AC0E-056C0345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9F05-6D9F-4558-882E-697D7F38C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8960-C7AE-4AD9-BA93-6C646BADB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2742840"/>
            <a:ext cx="4419720" cy="19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Exploding Ant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mazing Facts About How Animals Ada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4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37" descr="exploding ants"/>
          <p:cNvPicPr/>
          <p:nvPr/>
        </p:nvPicPr>
        <p:blipFill>
          <a:blip r:embed="rId1"/>
          <a:stretch/>
        </p:blipFill>
        <p:spPr>
          <a:xfrm>
            <a:off x="4419720" y="762120"/>
            <a:ext cx="4286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said that mone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car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ight n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go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plenti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895480" y="426708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ctic animals ha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pecializ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order to survive in that harsh environ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ow large and blubb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apt to the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828800" y="4419720"/>
            <a:ext cx="5029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ing out about the disease early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surviv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cessa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ptiona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2133720" y="3733920"/>
            <a:ext cx="44956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5192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m bought a tissue box since the extra production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ucu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s one of the cold symp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ck substance made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tance that carries oxygen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4114800"/>
            <a:ext cx="6553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urgeon needs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ter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room before he operat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alpel and other tools for surg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276720" y="4343400"/>
            <a:ext cx="3047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380880" y="1295280"/>
            <a:ext cx="38102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0880" y="2590920"/>
            <a:ext cx="388620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380880" y="4114800"/>
            <a:ext cx="28958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4876920" y="1523880"/>
            <a:ext cx="32004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495680" y="3276720"/>
            <a:ext cx="426744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4724280" y="4876920"/>
            <a:ext cx="327672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800600" y="18288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rd to get; r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4038480" y="609480"/>
            <a:ext cx="381024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MPj04372970000[1]"/>
          <p:cNvPicPr/>
          <p:nvPr/>
        </p:nvPicPr>
        <p:blipFill>
          <a:blip r:embed="rId1"/>
          <a:stretch/>
        </p:blipFill>
        <p:spPr>
          <a:xfrm>
            <a:off x="0" y="2057400"/>
            <a:ext cx="47912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657240" y="205740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ives ability, power, or means to; makes 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724280" y="457200"/>
            <a:ext cx="2895840" cy="129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Picture 13" descr="MPj04388470000[1]"/>
          <p:cNvPicPr/>
          <p:nvPr/>
        </p:nvPicPr>
        <p:blipFill>
          <a:blip r:embed="rId1"/>
          <a:stretch/>
        </p:blipFill>
        <p:spPr>
          <a:xfrm>
            <a:off x="0" y="3805200"/>
            <a:ext cx="457200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038480" y="1752120"/>
            <a:ext cx="4724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being important to the outcome of a situation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419720" y="457200"/>
            <a:ext cx="32004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5" descr="MCj02871840000[1]"/>
          <p:cNvPicPr/>
          <p:nvPr/>
        </p:nvPicPr>
        <p:blipFill>
          <a:blip r:embed="rId1"/>
          <a:stretch/>
        </p:blipFill>
        <p:spPr>
          <a:xfrm>
            <a:off x="2666880" y="4414680"/>
            <a:ext cx="31640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733920" y="175212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 develop in a special wa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962520" y="304920"/>
            <a:ext cx="396216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0" descr="MPj04310360000[1]"/>
          <p:cNvPicPr/>
          <p:nvPr/>
        </p:nvPicPr>
        <p:blipFill>
          <a:blip r:embed="rId1"/>
          <a:stretch/>
        </p:blipFill>
        <p:spPr>
          <a:xfrm>
            <a:off x="457200" y="609480"/>
            <a:ext cx="2338560" cy="3505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MPj04307630000[1]"/>
          <p:cNvPicPr/>
          <p:nvPr/>
        </p:nvPicPr>
        <p:blipFill>
          <a:blip r:embed="rId2"/>
          <a:stretch/>
        </p:blipFill>
        <p:spPr>
          <a:xfrm>
            <a:off x="2666880" y="3276720"/>
            <a:ext cx="2381400" cy="3581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2" descr="MCj04160240000[1]"/>
          <p:cNvPicPr/>
          <p:nvPr/>
        </p:nvPicPr>
        <p:blipFill>
          <a:blip r:embed="rId3"/>
          <a:stretch/>
        </p:blipFill>
        <p:spPr>
          <a:xfrm>
            <a:off x="5867280" y="3429000"/>
            <a:ext cx="184464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562720" y="1371600"/>
            <a:ext cx="304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free from germ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4114800" y="152280"/>
            <a:ext cx="342900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7" descr="MPj04004260000[1]"/>
          <p:cNvPicPr/>
          <p:nvPr/>
        </p:nvPicPr>
        <p:blipFill>
          <a:blip r:embed="rId1"/>
          <a:stretch/>
        </p:blipFill>
        <p:spPr>
          <a:xfrm>
            <a:off x="533520" y="1371600"/>
            <a:ext cx="510516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85840" y="1905120"/>
            <a:ext cx="4876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slimy substance produced in the nose and throat to moisten and protect them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4267080" y="304920"/>
            <a:ext cx="35053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304920" y="380880"/>
            <a:ext cx="3504960" cy="40388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uc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ca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aliz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r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MPj04222010000[1]"/>
          <p:cNvPicPr/>
          <p:nvPr/>
        </p:nvPicPr>
        <p:blipFill>
          <a:blip r:embed="rId1"/>
          <a:stretch/>
        </p:blipFill>
        <p:spPr>
          <a:xfrm>
            <a:off x="0" y="0"/>
            <a:ext cx="4116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ying for the science te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nab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make a good grad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kes it possible 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rengthens your brain s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523880" y="373392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Jarrod Gorman</cp:lastModifiedBy>
  <dcterms:modified xsi:type="dcterms:W3CDTF">2012-04-23T00:37:21Z</dcterms:modified>
  <cp:revision>95</cp:revision>
  <dc:subject/>
  <dc:title>Frindle Vocabulary Words</dc:title>
</cp:coreProperties>
</file>